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42A-5C57-4912-8A6F-C2676E1D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876-019D-4AD7-AA00-1C204551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9CB-D694-4991-97EC-CC1A5BF1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5EB-D49D-4BAB-B6B4-D5D09F6D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FB39-D0E8-4FEE-96DF-9A52F427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AE99-CA9C-4474-8B51-A4B9B5D8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5559-C4A7-414D-BFCB-F149D09F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DD01-F4C4-4E43-8B69-767124C7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2BB6-642C-4E64-8636-3B33430B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F142-5FF7-4E2D-A9C2-8FEED3A6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3A7C-DE00-48F4-80FB-990CDB2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6FC-21DB-4841-AE63-EF4C7AFE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EB94-32A9-4BCB-971B-6B19405C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54E9-EB83-4396-BCD8-FDE284AF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2F14-FBBC-4553-9415-9D1D2BE6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7855-D9DD-4541-8B30-25DF7FF9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16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80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752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16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80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6136-E858-46D5-B159-D068E4BE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430-48B9-4A36-9031-501F6512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0FC-D1AA-4734-9C3C-952BD502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862-B476-4838-ACC6-2F518F65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915-CAA2-4741-AA92-D1680783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251-BAF3-4744-9865-48EFC91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7D1-1872-4B0E-81DE-D7EEE7B7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831-0F47-4B67-8AD2-2BBF1C4E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8AE7-2836-49BF-9D6F-51CD843565A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8AE0-5C77-4126-8ADB-B7F3AA580F4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47Z</dcterms:modified>
  <cp:revision>7</cp:revision>
  <dc:subject/>
  <dc:title>幻灯片 1</dc:title>
</cp:coreProperties>
</file>